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0D2C9-8C9A-4610-82EA-CDAE3EED4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9B4BC-0699-4EB6-BB11-A133E7FB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C3CC6-98F8-4740-975D-E8A409898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A5CFA-4C93-4EA4-B3AA-BFA552F7D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F81A4-1BCC-4C29-88F3-7A2A31C8F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BE55F-0AC5-4A66-9B39-7D5EF69F6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82096-8BF3-4499-AB8A-8F3F2ADE5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B90BC-F6BD-49F6-AAC4-B53A4D095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9921B-4C4C-40B1-919F-145265954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97C87-C88C-4065-A327-BBF92F62B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07AC-D501-4DA6-90F5-B2B3D155E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A9F8-B6C7-4066-BC3F-5CFB39310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50000">
              <a:srgbClr val="99ccff"/>
            </a:gs>
            <a:gs pos="100000">
              <a:srgbClr val="99ff3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C664-8F3E-40F4-BC9F-DB2EF739F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600200" y="1676520"/>
            <a:ext cx="594360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logy</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9" name="Text Box 3"/>
          <p:cNvSpPr/>
          <p:nvPr/>
        </p:nvSpPr>
        <p:spPr>
          <a:xfrm>
            <a:off x="152280" y="568440"/>
            <a:ext cx="8610840" cy="524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statement is true about the flow of energy through an ecosystem?</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ergy is constantly recycled through an ecosystem.</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ergy flows through and ecosystem in one direction.</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umers have more available energy than producer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ergy flow is dependent on the number of consu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61" name="Text Box 3"/>
          <p:cNvSpPr/>
          <p:nvPr/>
        </p:nvSpPr>
        <p:spPr>
          <a:xfrm>
            <a:off x="152280" y="568440"/>
            <a:ext cx="861084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y are people concerned about the introduction of non-native speci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compete with native speci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are preferable to native speci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adapt quicker than native speci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cannot survive as well as native spe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63" name="Text Box 3"/>
          <p:cNvSpPr/>
          <p:nvPr/>
        </p:nvSpPr>
        <p:spPr>
          <a:xfrm>
            <a:off x="152280" y="568440"/>
            <a:ext cx="861084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e of the results of burning fossil fuels is the release of……</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FC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itrogen</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sphat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65" name="Text Box 3"/>
          <p:cNvSpPr/>
          <p:nvPr/>
        </p:nvSpPr>
        <p:spPr>
          <a:xfrm>
            <a:off x="152280" y="568440"/>
            <a:ext cx="8610840" cy="396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diagram below, as matter and energy move from grass to coyote, the amount of available energy _________.</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reas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reas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ys the same</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reases then increases</a:t>
            </a:r>
            <a:endParaRPr b="0" lang="en-US" sz="2800" spc="-1" strike="noStrike">
              <a:solidFill>
                <a:srgbClr val="000000"/>
              </a:solidFill>
              <a:latin typeface="Arial"/>
            </a:endParaRPr>
          </a:p>
        </p:txBody>
      </p:sp>
      <p:grpSp>
        <p:nvGrpSpPr>
          <p:cNvPr id="66" name="Group 15"/>
          <p:cNvGrpSpPr/>
          <p:nvPr/>
        </p:nvGrpSpPr>
        <p:grpSpPr>
          <a:xfrm>
            <a:off x="460440" y="4267080"/>
            <a:ext cx="8074080" cy="2039760"/>
            <a:chOff x="460440" y="4267080"/>
            <a:chExt cx="8074080" cy="2039760"/>
          </a:xfrm>
        </p:grpSpPr>
        <p:pic>
          <p:nvPicPr>
            <p:cNvPr id="67" name="Picture 4" descr=""/>
            <p:cNvPicPr/>
            <p:nvPr/>
          </p:nvPicPr>
          <p:blipFill>
            <a:blip r:embed="rId1"/>
            <a:stretch/>
          </p:blipFill>
          <p:spPr>
            <a:xfrm>
              <a:off x="460440" y="5181480"/>
              <a:ext cx="914400" cy="914400"/>
            </a:xfrm>
            <a:prstGeom prst="rect">
              <a:avLst/>
            </a:prstGeom>
            <a:ln w="0">
              <a:noFill/>
            </a:ln>
          </p:spPr>
        </p:pic>
        <p:pic>
          <p:nvPicPr>
            <p:cNvPr id="68" name="Picture 9" descr="an01359_[1]"/>
            <p:cNvPicPr/>
            <p:nvPr/>
          </p:nvPicPr>
          <p:blipFill>
            <a:blip r:embed="rId2"/>
            <a:stretch/>
          </p:blipFill>
          <p:spPr>
            <a:xfrm>
              <a:off x="2517840" y="5181480"/>
              <a:ext cx="1089000" cy="1047600"/>
            </a:xfrm>
            <a:prstGeom prst="rect">
              <a:avLst/>
            </a:prstGeom>
            <a:ln w="0">
              <a:noFill/>
            </a:ln>
          </p:spPr>
        </p:pic>
        <p:pic>
          <p:nvPicPr>
            <p:cNvPr id="69" name="Picture 10" descr="j0436209[1]"/>
            <p:cNvPicPr/>
            <p:nvPr/>
          </p:nvPicPr>
          <p:blipFill>
            <a:blip r:embed="rId3"/>
            <a:stretch/>
          </p:blipFill>
          <p:spPr>
            <a:xfrm>
              <a:off x="4422600" y="4343040"/>
              <a:ext cx="1295640" cy="1828800"/>
            </a:xfrm>
            <a:prstGeom prst="rect">
              <a:avLst/>
            </a:prstGeom>
            <a:ln w="0">
              <a:noFill/>
            </a:ln>
          </p:spPr>
        </p:pic>
        <p:pic>
          <p:nvPicPr>
            <p:cNvPr id="70" name="Picture 11" descr="an00323_[1]"/>
            <p:cNvPicPr/>
            <p:nvPr/>
          </p:nvPicPr>
          <p:blipFill>
            <a:blip r:embed="rId4"/>
            <a:stretch/>
          </p:blipFill>
          <p:spPr>
            <a:xfrm>
              <a:off x="6632640" y="4267080"/>
              <a:ext cx="1901880" cy="2039760"/>
            </a:xfrm>
            <a:prstGeom prst="rect">
              <a:avLst/>
            </a:prstGeom>
            <a:ln w="0">
              <a:noFill/>
            </a:ln>
          </p:spPr>
        </p:pic>
        <p:sp>
          <p:nvSpPr>
            <p:cNvPr id="71" name="Line 12"/>
            <p:cNvSpPr/>
            <p:nvPr/>
          </p:nvSpPr>
          <p:spPr>
            <a:xfrm>
              <a:off x="1527120" y="5697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3"/>
            <p:cNvSpPr/>
            <p:nvPr/>
          </p:nvSpPr>
          <p:spPr>
            <a:xfrm>
              <a:off x="5718240" y="5697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4"/>
            <p:cNvSpPr/>
            <p:nvPr/>
          </p:nvSpPr>
          <p:spPr>
            <a:xfrm>
              <a:off x="3432240" y="5697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75" name="Text Box 3"/>
          <p:cNvSpPr/>
          <p:nvPr/>
        </p:nvSpPr>
        <p:spPr>
          <a:xfrm>
            <a:off x="152280" y="568440"/>
            <a:ext cx="8610840" cy="439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the difference between primary &amp; secondary succession in an ecosystem?</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mary succession requires a soil substrate.</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mary succession colonizers devote a great deal of energy to reproduction.</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ondary succession occurs after a disaster.</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ondary succession colonizers expend a great deal of energy extracting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77" name="Text Box 3"/>
          <p:cNvSpPr/>
          <p:nvPr/>
        </p:nvSpPr>
        <p:spPr>
          <a:xfrm>
            <a:off x="228600" y="649440"/>
            <a:ext cx="8610480" cy="3115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rimary cause of acid rain i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ole in the ozone layer.</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cess chlorofluorocarbons (CFC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rning fossil fuel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lting of the polar ice ca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79" name="Text Box 3"/>
          <p:cNvSpPr/>
          <p:nvPr/>
        </p:nvSpPr>
        <p:spPr>
          <a:xfrm>
            <a:off x="152280" y="568440"/>
            <a:ext cx="861084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agine you are an ecologist studying two different communities.  One community has only a few individual species, and the other has a great diversity of species.  Which community do you think would have a greater risk of extinction due to disease, habitat destruction or other environmental chang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ess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re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wo communities would be at the same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vironmental changes cannot cause exti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81" name="Text Box 3"/>
          <p:cNvSpPr/>
          <p:nvPr/>
        </p:nvSpPr>
        <p:spPr>
          <a:xfrm>
            <a:off x="0" y="228600"/>
            <a:ext cx="8991720" cy="324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er to the diagra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going from one energy level to the next higher level,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mount of useful energy incre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mount of useful energy decre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individuals incre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iversity of individuals increases.</a:t>
            </a:r>
            <a:endParaRPr b="0" lang="en-US" sz="2400" spc="-1" strike="noStrike">
              <a:solidFill>
                <a:srgbClr val="000000"/>
              </a:solidFill>
              <a:latin typeface="Arial"/>
            </a:endParaRPr>
          </a:p>
        </p:txBody>
      </p:sp>
      <p:grpSp>
        <p:nvGrpSpPr>
          <p:cNvPr id="82" name="Group 13"/>
          <p:cNvGrpSpPr/>
          <p:nvPr/>
        </p:nvGrpSpPr>
        <p:grpSpPr>
          <a:xfrm>
            <a:off x="2438280" y="3809880"/>
            <a:ext cx="4648320" cy="2895840"/>
            <a:chOff x="2438280" y="3809880"/>
            <a:chExt cx="4648320" cy="2895840"/>
          </a:xfrm>
        </p:grpSpPr>
        <p:grpSp>
          <p:nvGrpSpPr>
            <p:cNvPr id="83" name="Group 7"/>
            <p:cNvGrpSpPr/>
            <p:nvPr/>
          </p:nvGrpSpPr>
          <p:grpSpPr>
            <a:xfrm>
              <a:off x="2438280" y="3809880"/>
              <a:ext cx="3886200" cy="2895840"/>
              <a:chOff x="2438280" y="3809880"/>
              <a:chExt cx="3886200" cy="2895840"/>
            </a:xfrm>
          </p:grpSpPr>
          <p:sp>
            <p:nvSpPr>
              <p:cNvPr id="84" name="AutoShape 4"/>
              <p:cNvSpPr/>
              <p:nvPr/>
            </p:nvSpPr>
            <p:spPr>
              <a:xfrm>
                <a:off x="2438280" y="3809880"/>
                <a:ext cx="3886200" cy="289584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5"/>
              <p:cNvSpPr/>
              <p:nvPr/>
            </p:nvSpPr>
            <p:spPr>
              <a:xfrm>
                <a:off x="3733920" y="47242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6"/>
              <p:cNvSpPr/>
              <p:nvPr/>
            </p:nvSpPr>
            <p:spPr>
              <a:xfrm>
                <a:off x="3048120" y="579132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WordArt 9"/>
            <p:cNvSpPr txBox="1"/>
            <p:nvPr/>
          </p:nvSpPr>
          <p:spPr>
            <a:xfrm>
              <a:off x="3657600" y="6095880"/>
              <a:ext cx="14479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oducers</a:t>
              </a:r>
              <a:endParaRPr b="0" lang="en-US" sz="1800" spc="1" strike="noStrike">
                <a:ln w="9360">
                  <a:solidFill>
                    <a:srgbClr val="000000"/>
                  </a:solidFill>
                  <a:miter/>
                </a:ln>
                <a:solidFill>
                  <a:srgbClr val="ffffff"/>
                </a:solidFill>
                <a:latin typeface="Arial Black"/>
                <a:ea typeface="Arial Black"/>
              </a:endParaRPr>
            </a:p>
          </p:txBody>
        </p:sp>
        <p:sp>
          <p:nvSpPr>
            <p:cNvPr id="88" name="WordArt 10"/>
            <p:cNvSpPr txBox="1"/>
            <p:nvPr/>
          </p:nvSpPr>
          <p:spPr>
            <a:xfrm>
              <a:off x="3657600" y="4952880"/>
              <a:ext cx="14479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sumers</a:t>
              </a:r>
              <a:endParaRPr b="0" lang="en-US" sz="1800" spc="1" strike="noStrike">
                <a:ln w="9360">
                  <a:solidFill>
                    <a:srgbClr val="000000"/>
                  </a:solidFill>
                  <a:miter/>
                </a:ln>
                <a:solidFill>
                  <a:srgbClr val="ffffff"/>
                </a:solidFill>
                <a:latin typeface="Arial Black"/>
                <a:ea typeface="Arial Black"/>
              </a:endParaRPr>
            </a:p>
          </p:txBody>
        </p:sp>
        <p:sp>
          <p:nvSpPr>
            <p:cNvPr id="89" name="Line 11"/>
            <p:cNvSpPr/>
            <p:nvPr/>
          </p:nvSpPr>
          <p:spPr>
            <a:xfrm flipV="1">
              <a:off x="4343400" y="4343040"/>
              <a:ext cx="1219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WordArt 12"/>
            <p:cNvSpPr txBox="1"/>
            <p:nvPr/>
          </p:nvSpPr>
          <p:spPr>
            <a:xfrm>
              <a:off x="5638680" y="4114800"/>
              <a:ext cx="1447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cond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sumers</a:t>
              </a:r>
              <a:endParaRPr b="0" lang="en-US" sz="18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92" name="Text Box 3"/>
          <p:cNvSpPr/>
          <p:nvPr/>
        </p:nvSpPr>
        <p:spPr>
          <a:xfrm>
            <a:off x="152280" y="568440"/>
            <a:ext cx="861084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agine you are an ecologist studying two different communities.  One community has only a few individual species, and the other has a great diversity of species.  Which community do you think would have a greater risk of extinction due to disease, habitat destruction or other environmental chang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ess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re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wo communities would be at the same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vironmental changes cannot cause exti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94" name="Text Box 3"/>
          <p:cNvSpPr/>
          <p:nvPr/>
        </p:nvSpPr>
        <p:spPr>
          <a:xfrm>
            <a:off x="152280" y="568440"/>
            <a:ext cx="8610840" cy="549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are the biomass of herbivores to the biomass of carnivores in most communities.</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are about the same.</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otal biomass of the carnivores is great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otal biomass of the herbivores in greater.</a:t>
            </a:r>
            <a:endParaRPr b="0" lang="en-US" sz="3200" spc="-1" strike="noStrike">
              <a:solidFill>
                <a:srgbClr val="000000"/>
              </a:solidFill>
              <a:latin typeface="Arial"/>
            </a:endParaRPr>
          </a:p>
          <a:p>
            <a:pPr lvl="1" marL="800280" indent="-34308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ither could be greater depending on the specific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4"/>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43" name="Text Box 5"/>
          <p:cNvSpPr/>
          <p:nvPr/>
        </p:nvSpPr>
        <p:spPr>
          <a:xfrm>
            <a:off x="152280" y="193680"/>
            <a:ext cx="8610840" cy="669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859, 24 European rabbits were brought to Australia for sport hunting.  The rabbits had no natural predators, resulting in an exponential growth patter for the rabbits.  They ate crops and became a serious, destructive pest within a relatively short period of time.  In an attempt to control the rabbit population, the myxoma virus was introduced into the rabbit population in 1950.  Initially, the virus was highly effective reducing the rabbit population by 99%.  Currently, the myxoma virus mortality rate is less than 50%.</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one scientifically probably change in the rabbit population of Australia that resulted in the reduced effectiveness of the myxoma virus in controlling the number of wild rabbits.</a:t>
            </a:r>
            <a:endParaRPr b="0" lang="en-US" sz="2400" spc="-1" strike="noStrike">
              <a:solidFill>
                <a:srgbClr val="000000"/>
              </a:solidFill>
              <a:latin typeface="Arial"/>
            </a:endParaRPr>
          </a:p>
          <a:p>
            <a:pPr marL="343080" indent="-343080">
              <a:spcBef>
                <a:spcPts val="15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one scientifically probable change in the myxoma virus that resulted in the reduced effectiveness of the virus in controlling the number of wild rab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96" name="Text Box 3"/>
          <p:cNvSpPr/>
          <p:nvPr/>
        </p:nvSpPr>
        <p:spPr>
          <a:xfrm>
            <a:off x="152280" y="568440"/>
            <a:ext cx="861084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agine you are an ecologist studying two different communities.  One community has only a few individual species, and the other has a great diversity of species.  Which community do you think would have a greater risk of extinction due to disease, habitat destruction or other environmental chang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ess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re diverse community would be at greater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wo communities would be at the same risk of complete extinc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vironmental changes cannot cause exti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98" name="Text Box 3"/>
          <p:cNvSpPr/>
          <p:nvPr/>
        </p:nvSpPr>
        <p:spPr>
          <a:xfrm>
            <a:off x="152280" y="568440"/>
            <a:ext cx="8610840" cy="5943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years ago, a fire destroyed a wooded area.  All that remained was bare rock.  After a few years, blue-green plants began growing on the rock.  This growth continued despite the lack of soil and the harsh living conditions.  Seeds from other kinds of plants fell in the area, but due to the lack of soil, they did not grow.  After a long time, many of the blue-green plants died, providing organic matter.  As time went on, small plants began to live, grow and die.  Their remains further added to the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100" name="Text Box 3"/>
          <p:cNvSpPr/>
          <p:nvPr/>
        </p:nvSpPr>
        <p:spPr>
          <a:xfrm>
            <a:off x="228600" y="568440"/>
            <a:ext cx="8610480" cy="6874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3600" spc="-1" strike="noStrike">
                <a:solidFill>
                  <a:srgbClr val="000000"/>
                </a:solidFill>
                <a:latin typeface="Arial"/>
              </a:rPr>
              <a:t>The soil became richer.  After a long while, shrubs began to replace the small plants.  Birds and other animals passing through dropped seeds.  The wind also carried in other seeds.  Trees started to grow, and many other plants and animals started living in the area.  For several years following, the community remained fairly stable.</a:t>
            </a:r>
            <a:endParaRPr b="0" lang="en-US" sz="3600" spc="-1" strike="noStrike">
              <a:solidFill>
                <a:srgbClr val="000000"/>
              </a:solidFill>
              <a:latin typeface="Arial"/>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102" name="Text Box 3"/>
          <p:cNvSpPr/>
          <p:nvPr/>
        </p:nvSpPr>
        <p:spPr>
          <a:xfrm>
            <a:off x="152280" y="152280"/>
            <a:ext cx="8610840" cy="6753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ocess described in the above passage is an example of…..</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omposi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cess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asitism</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ne of these</a:t>
            </a:r>
            <a:endParaRPr b="0"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green plants that first grew on the rock were probably…..</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biotic such as lichens or mos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ral</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nthetic</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if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104" name="Text Box 3"/>
          <p:cNvSpPr/>
          <p:nvPr/>
        </p:nvSpPr>
        <p:spPr>
          <a:xfrm>
            <a:off x="228600" y="492120"/>
            <a:ext cx="861048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ast community described is called a _______ community.</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ondary</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ioneering</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imax</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106" name="Text Box 3"/>
          <p:cNvSpPr/>
          <p:nvPr/>
        </p:nvSpPr>
        <p:spPr>
          <a:xfrm>
            <a:off x="152280" y="568440"/>
            <a:ext cx="8610840" cy="5709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roblem:  Weeds were taking over a family pond.  The owner treated the water with a herbicide that was supposed to be non-toxic to animals.  The weeds died but within 2 weeks, a large number of the fish also died.  The owner suspects that the chemical is toxic to fish and consults his layer about a possible law suit.</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are an environmental scientist hired by the attorney.  Provide 2 different hypotheses for the cause of the fish k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ome that has the greatist diversity is the_________.</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ser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tropical rainfores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undr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emperate deciduous 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biomes that are most alike in the amount of average rainfall are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not one of the Earth’s three main climate z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es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ropic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empe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rbon dioxide, methane, water vapor, and a few other atmospheric gases trap heat energy and maintain Earth’s temperature range creating a ______________ ________.</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45" name="Text Box 3"/>
          <p:cNvSpPr/>
          <p:nvPr/>
        </p:nvSpPr>
        <p:spPr>
          <a:xfrm>
            <a:off x="304920" y="746280"/>
            <a:ext cx="8610480" cy="507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iologist analyzing a sample of organelles obtained from plant cells found that they took up CO</a:t>
            </a:r>
            <a:r>
              <a:rPr b="0" lang="en-US" sz="3200" spc="-1" strike="noStrike" baseline="-25000">
                <a:solidFill>
                  <a:srgbClr val="000000"/>
                </a:solidFill>
                <a:latin typeface="Arial"/>
              </a:rPr>
              <a:t>2</a:t>
            </a:r>
            <a:r>
              <a:rPr b="0" lang="en-US" sz="3200" spc="-1" strike="noStrike">
                <a:solidFill>
                  <a:srgbClr val="000000"/>
                </a:solidFill>
                <a:latin typeface="Arial"/>
              </a:rPr>
              <a:t> and gave off O</a:t>
            </a:r>
            <a:r>
              <a:rPr b="0" lang="en-US" sz="3200" spc="-1" strike="noStrike" baseline="-25000">
                <a:solidFill>
                  <a:srgbClr val="000000"/>
                </a:solidFill>
                <a:latin typeface="Arial"/>
              </a:rPr>
              <a:t>2</a:t>
            </a:r>
            <a:r>
              <a:rPr b="0" lang="en-US" sz="3200" spc="-1" strike="noStrike">
                <a:solidFill>
                  <a:srgbClr val="000000"/>
                </a:solidFill>
                <a:latin typeface="Arial"/>
              </a:rPr>
              <a:t>.  The organelles are most likely:</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ribosomes</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chloroplasts</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mitochondria</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 Golgi Bo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efines a species ni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Abiotic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 Biotic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  Food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I only             c.  I and III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III only           d.  II and III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I, II and II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which has the greatest effect on determining the climate of a re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ngitu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ominant plant spe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Distance from the equ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revailing wi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NOT an abiotic factor in an eco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croorganis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inf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ter in an estuary 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lt water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oor in nutr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sh water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 the aphotic z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 mixture of fresh water and salt 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two types of estu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are based on depth and distance from sh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ertidal z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astal oc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Open oc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ms that live near or on the ocean floor are ca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enth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lank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angro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47" name="Text Box 3"/>
          <p:cNvSpPr/>
          <p:nvPr/>
        </p:nvSpPr>
        <p:spPr>
          <a:xfrm>
            <a:off x="152280" y="533520"/>
            <a:ext cx="8610840" cy="589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rple Loosestrife is an aggressive non-native flowering plant that is now destroying fields and wetlands across the country.  What is the main way that an introduced species such as purple loosestrife can harm the environ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It pollutes the air.</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It crowds out native plant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It interrupts the water cycl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it prevents insects from pollinating othe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lant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49" name="Text Box 3"/>
          <p:cNvSpPr/>
          <p:nvPr/>
        </p:nvSpPr>
        <p:spPr>
          <a:xfrm>
            <a:off x="304920" y="806400"/>
            <a:ext cx="861048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trophic levels in a food web is limited by…..</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he amount of biodiversity present.</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the number of days of sunshine.</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he amount of available energy</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he number of non-native organis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1" name="Text Box 3"/>
          <p:cNvSpPr/>
          <p:nvPr/>
        </p:nvSpPr>
        <p:spPr>
          <a:xfrm>
            <a:off x="152280" y="568440"/>
            <a:ext cx="8610840" cy="396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of the following shows a necessary relationship between biotic and abiotic factors in the environ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lants break down stored energy.</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Earthworms recycle soil nutrient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Rocks help break down mos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Animals consume pl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3" name="Text Box 3"/>
          <p:cNvSpPr/>
          <p:nvPr/>
        </p:nvSpPr>
        <p:spPr>
          <a:xfrm>
            <a:off x="228600" y="603360"/>
            <a:ext cx="861048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of these biomes has the greatest biodiversity?</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aiga</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Savanna</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Tropical Rainfores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Temperate Evergreen Fo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5" name="Text Box 3"/>
          <p:cNvSpPr/>
          <p:nvPr/>
        </p:nvSpPr>
        <p:spPr>
          <a:xfrm>
            <a:off x="152280" y="568440"/>
            <a:ext cx="8610840" cy="524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statement BEST characterizes a typical mature ecosystem unaffected by migration or major environmental change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ontant changes from one extreme to the other.</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Constant state of balance with no changes at all.</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Wide fluctuations followed by periods of stability.</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Slight changes around a relatively fixed state of bal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2"/>
          <p:cNvSpPr txBox="1"/>
          <p:nvPr/>
        </p:nvSpPr>
        <p:spPr>
          <a:xfrm>
            <a:off x="8534520" y="7632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co</a:t>
            </a:r>
            <a:endParaRPr b="0" lang="en-US" sz="1800" spc="1" strike="noStrike">
              <a:ln w="9360">
                <a:solidFill>
                  <a:srgbClr val="000000"/>
                </a:solidFill>
                <a:miter/>
              </a:ln>
              <a:solidFill>
                <a:srgbClr val="ffffff"/>
              </a:solidFill>
              <a:latin typeface="Arial Black"/>
              <a:ea typeface="Arial Black"/>
            </a:endParaRPr>
          </a:p>
        </p:txBody>
      </p:sp>
      <p:sp>
        <p:nvSpPr>
          <p:cNvPr id="57" name="Text Box 3"/>
          <p:cNvSpPr/>
          <p:nvPr/>
        </p:nvSpPr>
        <p:spPr>
          <a:xfrm>
            <a:off x="152280" y="568440"/>
            <a:ext cx="8610840" cy="354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e of the results of burning fossil fuels is the release of……</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FC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itrogen</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sphates</a:t>
            </a:r>
            <a:endParaRPr b="0" lang="en-US" sz="2800" spc="-1" strike="noStrike">
              <a:solidFill>
                <a:srgbClr val="000000"/>
              </a:solidFill>
              <a:latin typeface="Arial"/>
            </a:endParaRPr>
          </a:p>
          <a:p>
            <a:pPr lvl="1" marL="800280" indent="-343080">
              <a:lnSpc>
                <a:spcPct val="100000"/>
              </a:lnSpc>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3:43:18Z</dcterms:created>
  <dc:creator>Kary M. Kahle</dc:creator>
  <dc:description/>
  <dc:language>en-US</dc:language>
  <cp:lastModifiedBy>Tracey Hayden</cp:lastModifiedBy>
  <dcterms:modified xsi:type="dcterms:W3CDTF">2009-04-19T16:08:53Z</dcterms:modified>
  <cp:revision>43</cp:revision>
  <dc:subject/>
  <dc:title>Slide 1</dc:title>
</cp:coreProperties>
</file>